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1DA0E-583E-4D69-87F0-DB6D63772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7751D-8A63-48E8-AE13-172FEB101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0E374E-E9BF-4546-83C1-B168DACAB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83AD5D-DB5D-4CCC-A916-18BEE798D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A4D819-A0E4-49FD-90F2-B56795B7E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E96A4E-7FC2-4092-91E5-012EB11AC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52EB19-F63E-4F8A-BADD-BDDBAF2DB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81BB9F-A19F-4BA9-912B-7CE0D0A69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65E361-6ADE-4E9B-BFD2-175C0C659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3AC92D-6206-44D7-99AD-4D59221AD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34B5B8-FBCE-4755-AC51-8AD2B64A7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F37FC1-9A47-45DF-BF87-DBAB7272B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B83BF-E6A0-4660-9F14-58F218BBE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E5F15B-A9F5-4865-AF6D-942796ACB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EF4186-00ED-4E2C-B756-8E72FF2C7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D9FF28-E7A4-4124-8766-9F93FD4EF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72D4B3-26A6-4DFA-9642-7E0A2A480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4B83C9-2A1D-4784-873B-9DF69C8C1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23767D-AA06-4F48-AFE2-CB74D69B3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4D24D9-E7FC-48EB-AA21-C78A98EDF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382758-0AD2-44C6-8573-0F215CCE9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AFFDE5-5132-48BD-9DD2-7180F148F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CC89D9-CB8C-4BB6-AFAF-0E2645D0D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FB994-3A0B-439D-8808-832D03E3D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E8EDA2-E560-4C46-9FA4-7EA9C0EB5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E4418-2394-49BD-A9C7-87E5D440B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D99BD-F27A-4B45-BEB4-518B032B6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A6F0B-900A-4855-8B09-712AB97DA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47014-286E-43EC-AADD-98D3F84E7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0FC27-DBEC-4271-AAFD-302833FCE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4F9DF-3E5F-4EDF-B93A-68E6B7688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58AF8-AFBA-460A-8BA9-0C3AC5C8F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3FF30-F41F-44B0-BFE6-9710B5F1A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50ED0-5B93-464D-9428-24D6AA09F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12853-9CF6-4254-96EA-A3C8DFBFD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C2168-EA5C-4650-AE73-AD163CCC5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EBEF2-B029-4082-B088-B43B728F6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40247-699A-48ED-B953-A4DD88809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03AE56-1D07-4F84-B443-6E5EAC570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96CB7B-8B39-4813-8D11-6C49E95CD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22FAD9-BDA5-4C99-9006-593032BAB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F323C2-9C16-45DD-95D7-BD701CEA8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FA7055-9346-433B-AF21-3D97CDF03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365D5-668D-4591-92D7-BA618B90C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3E2638-CA0A-461D-BFBE-273112152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0061D5-C246-40E1-9670-48F29DC24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7130B8-F64E-42B0-8F8E-3280E0192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3FDE93-CC9B-4B89-A2CF-550AFDD5D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B0C867-FB1C-4916-8732-B3B8EA838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3DA515-EED5-4E02-9DEA-BA1773B11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40A9D5-F96B-4C13-B906-681ABAEBE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A679EA-1121-4734-8090-9A2574A7B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2EBA3E-CE54-4E53-81CD-3BF2197B7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B37BF3-A135-4852-9BB4-232F0FD97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AD3B6-85CE-44C5-BFEB-38A3A4529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3B235F-C57B-4E5E-AC3C-166D6CC67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0CFF13-DC2A-4F21-9F37-4060E91DB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EBDBD5-428D-4196-B118-075D2AA12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6A3244-CB8A-48CB-927C-3D3EE9083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7266A1-C843-4146-B8A0-A2C1FDCCA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2E8C46-684D-4BF0-BF1F-C63FE7C3E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E2205F-55D2-4F0A-B46C-9B3040126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231BB9-82C9-47AD-8ACF-BBBF8BE41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B901FC-6D30-499D-8A48-46307D51B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64802F-487A-4C08-BB09-DA0700504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49C67-179D-4DBF-BB95-B297DED7A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4B67BB-9709-4E67-9A68-8BEB20181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E1F48A-DE50-4E13-9A45-03443DB5D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9F3497-3645-4C36-954D-B66CD940F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2186D7-0D9C-45E4-8E21-DFD619895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4E5CC0-980A-4005-915B-7F581A014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77970A-CF63-4636-9C68-E0BAB3D89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B048C3-0120-4FBA-BB0E-7E68D4D97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18C645-3374-42B8-8E2A-02BA7FF46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BD7D17-CBD5-442B-81D0-8FB69B408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82B713-2A43-4AF2-98AC-D55C059DC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2FB68-19DE-449D-B1AC-1E5BABC01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D897C1-7326-4400-93B0-36B0D6915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2AD6EC-FB40-48F7-A2CF-78D01AF51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28B753-096E-4A33-B85A-B6B9D5B2C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E45493-D06E-4ED0-B2B4-0E9ABF0A2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0E99FE-2EAC-422C-8C29-6742B8870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95404B-3545-4DE5-A404-868EB062C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6C1DBB-DEE9-421F-9981-C7D149634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1D0BCC-E98C-4DC9-AA30-CD6C34E32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D283E9-6C24-484C-B676-14F1716FB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D33881-95E2-4420-8628-117A6BE7E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2E1F8-DEA5-41F2-A169-7DF3D50B4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E51CEA-CCF7-4AA0-9C36-699D160E1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1CF29D-DC1D-4102-8842-8538E0A4D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73CD01-29CF-458D-971A-0779ACA76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4C7B78-06CD-4939-9D45-E5224AB3F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897D4E-9F94-4D6F-9C66-F19C9BF01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A6E926-7655-4297-A7C0-867617085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514DE2-005B-4653-8FB0-03CC3D762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7935B7-3AB9-4D2E-B93C-B6865FD2B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FE2CA9-AB3F-4264-8E68-8A9812730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BCDA80-D54E-41CF-B36C-A35372745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C0C72-1546-4174-AA6C-143472CC5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E28D30-62A3-4FD9-B635-FCF5981C0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D8A937-9CFE-4F5F-B422-0A00DF25F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D49130-907B-41AC-B703-F735DCE68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466E13-84D7-4472-B8DE-99A7B906B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7B7DDA-992F-4BB5-9187-5FFA5BF23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471DF5-F8CB-4FD8-897B-5AA432F72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6E97ED-F53C-4DCB-BEE4-402D22336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44BFBE-9149-416A-9C65-ACB52167F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3BCF8B-252A-45C2-B1EC-AB93CA1F6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352DAB-216E-45C8-AEB4-5AD26B7F4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18CD7-F715-43DA-A26E-B15B1CCE3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04F90E-1E7D-40EC-A568-E6C579B69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F4BA2F-3B29-4C42-A67A-66DA01986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082A8F-43ED-4E38-9D56-F47F727D4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7425B2-B956-4CD1-87BC-26006459F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1840DC-1F82-454F-B88A-C3A1573DE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BA272F-59F6-4AB6-819F-7DA6A05FE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90F886-D629-4BB4-9C30-8AD172E90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D10037-0492-41EC-9F1D-0FC899A23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98462C-E84B-47EA-97B2-63D0900F6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2A0B49-71E8-42EE-BEA4-A6C46E74E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A2AB9-8DD6-411C-8795-BD0456EA046E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6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Rectangle 7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8" name="Group 8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449" name="Freeform 9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450" name="Freeform 9" descr=""/>
              <p:cNvPicPr/>
              <p:nvPr/>
            </p:nvPicPr>
            <p:blipFill>
              <a:blip r:embed="rId2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1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2" name="Rectangle 10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c0504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Rectangle 11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28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9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0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BE018-223B-4E30-A20F-75FF01C5BBF0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5"/>
          <p:cNvSpPr/>
          <p:nvPr/>
        </p:nvSpPr>
        <p:spPr>
          <a:xfrm>
            <a:off x="0" y="1928880"/>
            <a:ext cx="9144000" cy="492912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46" descr="2.png"/>
          <p:cNvPicPr/>
          <p:nvPr/>
        </p:nvPicPr>
        <p:blipFill>
          <a:blip r:embed="rId2"/>
          <a:stretch/>
        </p:blipFill>
        <p:spPr>
          <a:xfrm>
            <a:off x="5072040" y="3571920"/>
            <a:ext cx="3718080" cy="328608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20"/>
          <p:cNvGrpSpPr/>
          <p:nvPr/>
        </p:nvGrpSpPr>
        <p:grpSpPr>
          <a:xfrm>
            <a:off x="7287480" y="716400"/>
            <a:ext cx="867600" cy="1688400"/>
            <a:chOff x="7287480" y="716400"/>
            <a:chExt cx="867600" cy="1688400"/>
          </a:xfrm>
        </p:grpSpPr>
        <p:sp>
          <p:nvSpPr>
            <p:cNvPr id="44" name="Rectangle 19"/>
            <p:cNvSpPr/>
            <p:nvPr/>
          </p:nvSpPr>
          <p:spPr>
            <a:xfrm rot="360000">
              <a:off x="7868880" y="878760"/>
              <a:ext cx="210960" cy="1445040"/>
            </a:xfrm>
            <a:prstGeom prst="rect">
              <a:avLst/>
            </a:prstGeom>
            <a:gradFill rotWithShape="0">
              <a:gsLst>
                <a:gs pos="0">
                  <a:srgbClr val="7f7f7f">
                    <a:alpha val="0"/>
                  </a:srgbClr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" name="Group 18"/>
            <p:cNvGrpSpPr/>
            <p:nvPr/>
          </p:nvGrpSpPr>
          <p:grpSpPr>
            <a:xfrm>
              <a:off x="7287480" y="716400"/>
              <a:ext cx="669960" cy="1688400"/>
              <a:chOff x="7287480" y="716400"/>
              <a:chExt cx="669960" cy="1688400"/>
            </a:xfrm>
          </p:grpSpPr>
          <p:sp>
            <p:nvSpPr>
              <p:cNvPr id="46" name="Rectangle 16"/>
              <p:cNvSpPr/>
              <p:nvPr/>
            </p:nvSpPr>
            <p:spPr>
              <a:xfrm rot="360000">
                <a:off x="7425720" y="740880"/>
                <a:ext cx="502920" cy="576360"/>
              </a:xfrm>
              <a:prstGeom prst="rect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Rectangle 17"/>
              <p:cNvSpPr/>
              <p:nvPr/>
            </p:nvSpPr>
            <p:spPr>
              <a:xfrm rot="360000">
                <a:off x="7341840" y="1310760"/>
                <a:ext cx="502920" cy="1070280"/>
              </a:xfrm>
              <a:prstGeom prst="rect">
                <a:avLst/>
              </a:prstGeom>
              <a:solidFill>
                <a:srgbClr val="dce6f2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8" name="Group 26"/>
          <p:cNvGrpSpPr/>
          <p:nvPr/>
        </p:nvGrpSpPr>
        <p:grpSpPr>
          <a:xfrm>
            <a:off x="7856640" y="1067400"/>
            <a:ext cx="966600" cy="1712880"/>
            <a:chOff x="7856640" y="1067400"/>
            <a:chExt cx="966600" cy="1712880"/>
          </a:xfrm>
        </p:grpSpPr>
        <p:sp>
          <p:nvSpPr>
            <p:cNvPr id="49" name="Rectangle 22"/>
            <p:cNvSpPr/>
            <p:nvPr/>
          </p:nvSpPr>
          <p:spPr>
            <a:xfrm rot="600000">
              <a:off x="8488440" y="1246320"/>
              <a:ext cx="210960" cy="1444320"/>
            </a:xfrm>
            <a:prstGeom prst="rect">
              <a:avLst/>
            </a:prstGeom>
            <a:gradFill rotWithShape="0">
              <a:gsLst>
                <a:gs pos="0">
                  <a:srgbClr val="7f7f7f">
                    <a:alpha val="0"/>
                  </a:srgbClr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Rectangle 24"/>
            <p:cNvSpPr/>
            <p:nvPr/>
          </p:nvSpPr>
          <p:spPr>
            <a:xfrm rot="600000">
              <a:off x="8082000" y="1106640"/>
              <a:ext cx="503280" cy="576000"/>
            </a:xfrm>
            <a:prstGeom prst="rect">
              <a:avLst/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Rectangle 25"/>
            <p:cNvSpPr/>
            <p:nvPr/>
          </p:nvSpPr>
          <p:spPr>
            <a:xfrm rot="600000">
              <a:off x="7945560" y="1674360"/>
              <a:ext cx="503280" cy="1069920"/>
            </a:xfrm>
            <a:prstGeom prst="rect">
              <a:avLst/>
            </a:prstGeom>
            <a:solidFill>
              <a:srgbClr val="f2dcdb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Group 41"/>
          <p:cNvGrpSpPr/>
          <p:nvPr/>
        </p:nvGrpSpPr>
        <p:grpSpPr>
          <a:xfrm>
            <a:off x="0" y="1809720"/>
            <a:ext cx="9144000" cy="120600"/>
            <a:chOff x="0" y="1809720"/>
            <a:chExt cx="9144000" cy="120600"/>
          </a:xfrm>
        </p:grpSpPr>
        <p:sp>
          <p:nvSpPr>
            <p:cNvPr id="53" name="Straight Connector 31"/>
            <p:cNvSpPr/>
            <p:nvPr/>
          </p:nvSpPr>
          <p:spPr>
            <a:xfrm>
              <a:off x="0" y="180972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Straight Connector 33"/>
            <p:cNvSpPr/>
            <p:nvPr/>
          </p:nvSpPr>
          <p:spPr>
            <a:xfrm>
              <a:off x="0" y="186516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Straight Connector 34"/>
            <p:cNvSpPr/>
            <p:nvPr/>
          </p:nvSpPr>
          <p:spPr>
            <a:xfrm>
              <a:off x="0" y="192888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6" name="Group 277" descr=""/>
          <p:cNvPicPr/>
          <p:nvPr/>
        </p:nvPicPr>
        <p:blipFill>
          <a:blip r:embed="rId3"/>
          <a:stretch/>
        </p:blipFill>
        <p:spPr>
          <a:xfrm>
            <a:off x="438120" y="2298600"/>
            <a:ext cx="1414440" cy="149868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8D5F6-CC40-4E6B-A9AC-A579FF223DD3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traight Connector 6"/>
          <p:cNvSpPr/>
          <p:nvPr/>
        </p:nvSpPr>
        <p:spPr>
          <a:xfrm>
            <a:off x="0" y="1316160"/>
            <a:ext cx="8577360" cy="1440"/>
          </a:xfrm>
          <a:prstGeom prst="line">
            <a:avLst/>
          </a:prstGeom>
          <a:ln w="9360">
            <a:solidFill>
              <a:srgbClr val="c4bd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Group 277" descr=""/>
          <p:cNvPicPr/>
          <p:nvPr/>
        </p:nvPicPr>
        <p:blipFill>
          <a:blip r:embed="rId2"/>
          <a:stretch/>
        </p:blipFill>
        <p:spPr>
          <a:xfrm>
            <a:off x="317520" y="212760"/>
            <a:ext cx="968400" cy="100008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11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12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Group 18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103" name="Freeform 14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104" name="Freeform 14" descr=""/>
              <p:cNvPicPr/>
              <p:nvPr/>
            </p:nvPicPr>
            <p:blipFill>
              <a:blip r:embed="rId3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6" name="Rectangle 16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4f81b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Rectangle 17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7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8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9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0468D-B3C1-44EE-9277-EFEFA6A1696C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18"/>
          <p:cNvSpPr/>
          <p:nvPr/>
        </p:nvSpPr>
        <p:spPr>
          <a:xfrm>
            <a:off x="0" y="4718160"/>
            <a:ext cx="9144000" cy="172872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Group 6"/>
          <p:cNvGrpSpPr/>
          <p:nvPr/>
        </p:nvGrpSpPr>
        <p:grpSpPr>
          <a:xfrm>
            <a:off x="7031880" y="3440520"/>
            <a:ext cx="867960" cy="1688400"/>
            <a:chOff x="7031880" y="3440520"/>
            <a:chExt cx="867960" cy="1688400"/>
          </a:xfrm>
        </p:grpSpPr>
        <p:sp>
          <p:nvSpPr>
            <p:cNvPr id="151" name="Rectangle 7"/>
            <p:cNvSpPr/>
            <p:nvPr/>
          </p:nvSpPr>
          <p:spPr>
            <a:xfrm rot="360000">
              <a:off x="7613640" y="3602880"/>
              <a:ext cx="210960" cy="1445040"/>
            </a:xfrm>
            <a:prstGeom prst="rect">
              <a:avLst/>
            </a:prstGeom>
            <a:gradFill rotWithShape="0">
              <a:gsLst>
                <a:gs pos="0">
                  <a:srgbClr val="7f7f7f">
                    <a:alpha val="0"/>
                  </a:srgbClr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2" name="Group 18"/>
            <p:cNvGrpSpPr/>
            <p:nvPr/>
          </p:nvGrpSpPr>
          <p:grpSpPr>
            <a:xfrm>
              <a:off x="7031880" y="3440520"/>
              <a:ext cx="670320" cy="1688400"/>
              <a:chOff x="7031880" y="3440520"/>
              <a:chExt cx="670320" cy="1688400"/>
            </a:xfrm>
          </p:grpSpPr>
          <p:sp>
            <p:nvSpPr>
              <p:cNvPr id="153" name="Rectangle 9"/>
              <p:cNvSpPr/>
              <p:nvPr/>
            </p:nvSpPr>
            <p:spPr>
              <a:xfrm rot="360000">
                <a:off x="7170120" y="3465000"/>
                <a:ext cx="503280" cy="576360"/>
              </a:xfrm>
              <a:prstGeom prst="rect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Rectangle 10"/>
              <p:cNvSpPr/>
              <p:nvPr/>
            </p:nvSpPr>
            <p:spPr>
              <a:xfrm rot="360000">
                <a:off x="7086240" y="4034880"/>
                <a:ext cx="503280" cy="1070280"/>
              </a:xfrm>
              <a:prstGeom prst="rect">
                <a:avLst/>
              </a:prstGeom>
              <a:solidFill>
                <a:srgbClr val="dce6f2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5" name="Group 11"/>
          <p:cNvGrpSpPr/>
          <p:nvPr/>
        </p:nvGrpSpPr>
        <p:grpSpPr>
          <a:xfrm>
            <a:off x="7620120" y="3791520"/>
            <a:ext cx="966600" cy="1712880"/>
            <a:chOff x="7620120" y="3791520"/>
            <a:chExt cx="966600" cy="1712880"/>
          </a:xfrm>
        </p:grpSpPr>
        <p:sp>
          <p:nvSpPr>
            <p:cNvPr id="156" name="Rectangle 12"/>
            <p:cNvSpPr/>
            <p:nvPr/>
          </p:nvSpPr>
          <p:spPr>
            <a:xfrm rot="600000">
              <a:off x="8251920" y="3970440"/>
              <a:ext cx="210960" cy="1444320"/>
            </a:xfrm>
            <a:prstGeom prst="rect">
              <a:avLst/>
            </a:prstGeom>
            <a:gradFill rotWithShape="0">
              <a:gsLst>
                <a:gs pos="0">
                  <a:srgbClr val="7f7f7f">
                    <a:alpha val="0"/>
                  </a:srgbClr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Rectangle 13"/>
            <p:cNvSpPr/>
            <p:nvPr/>
          </p:nvSpPr>
          <p:spPr>
            <a:xfrm rot="600000">
              <a:off x="7845480" y="3830760"/>
              <a:ext cx="503280" cy="576000"/>
            </a:xfrm>
            <a:prstGeom prst="rect">
              <a:avLst/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14"/>
            <p:cNvSpPr/>
            <p:nvPr/>
          </p:nvSpPr>
          <p:spPr>
            <a:xfrm rot="600000">
              <a:off x="7709040" y="4398480"/>
              <a:ext cx="503280" cy="1069920"/>
            </a:xfrm>
            <a:prstGeom prst="rect">
              <a:avLst/>
            </a:prstGeom>
            <a:solidFill>
              <a:srgbClr val="f2dcdb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" name="Group 19"/>
          <p:cNvGrpSpPr/>
          <p:nvPr/>
        </p:nvGrpSpPr>
        <p:grpSpPr>
          <a:xfrm>
            <a:off x="0" y="4575240"/>
            <a:ext cx="9144000" cy="120600"/>
            <a:chOff x="0" y="4575240"/>
            <a:chExt cx="9144000" cy="120600"/>
          </a:xfrm>
        </p:grpSpPr>
        <p:sp>
          <p:nvSpPr>
            <p:cNvPr id="160" name="Straight Connector 15"/>
            <p:cNvSpPr/>
            <p:nvPr/>
          </p:nvSpPr>
          <p:spPr>
            <a:xfrm>
              <a:off x="0" y="457524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Straight Connector 16"/>
            <p:cNvSpPr/>
            <p:nvPr/>
          </p:nvSpPr>
          <p:spPr>
            <a:xfrm>
              <a:off x="0" y="463068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Straight Connector 17"/>
            <p:cNvSpPr/>
            <p:nvPr/>
          </p:nvSpPr>
          <p:spPr>
            <a:xfrm>
              <a:off x="0" y="469440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63" name="Group 277" descr=""/>
          <p:cNvPicPr/>
          <p:nvPr/>
        </p:nvPicPr>
        <p:blipFill>
          <a:blip r:embed="rId2"/>
          <a:stretch/>
        </p:blipFill>
        <p:spPr>
          <a:xfrm>
            <a:off x="360360" y="5005440"/>
            <a:ext cx="992160" cy="106668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0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1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2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DB2A4-6BB9-4A86-9CC2-BD4C188E7A80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9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208" name="Freeform 10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209" name="Freeform 10" descr=""/>
              <p:cNvPicPr/>
              <p:nvPr/>
            </p:nvPicPr>
            <p:blipFill>
              <a:blip r:embed="rId2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0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1" name="Rectangle 11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c0504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Rectangle 12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3" name="Straight Connector 13"/>
          <p:cNvSpPr/>
          <p:nvPr/>
        </p:nvSpPr>
        <p:spPr>
          <a:xfrm>
            <a:off x="0" y="1316160"/>
            <a:ext cx="8577360" cy="1440"/>
          </a:xfrm>
          <a:prstGeom prst="line">
            <a:avLst/>
          </a:prstGeom>
          <a:ln w="9360">
            <a:solidFill>
              <a:srgbClr val="c4bd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4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5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28F6E-851F-45BC-90C4-DE38F0C45688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9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6" name="Group 10"/>
          <p:cNvGrpSpPr/>
          <p:nvPr/>
        </p:nvGrpSpPr>
        <p:grpSpPr>
          <a:xfrm>
            <a:off x="0" y="1143000"/>
            <a:ext cx="9144000" cy="120600"/>
            <a:chOff x="0" y="1143000"/>
            <a:chExt cx="9144000" cy="120600"/>
          </a:xfrm>
        </p:grpSpPr>
        <p:sp>
          <p:nvSpPr>
            <p:cNvPr id="257" name="Straight Connector 11"/>
            <p:cNvSpPr/>
            <p:nvPr/>
          </p:nvSpPr>
          <p:spPr>
            <a:xfrm>
              <a:off x="0" y="114300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Straight Connector 12"/>
            <p:cNvSpPr/>
            <p:nvPr/>
          </p:nvSpPr>
          <p:spPr>
            <a:xfrm>
              <a:off x="0" y="119844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Straight Connector 13"/>
            <p:cNvSpPr/>
            <p:nvPr/>
          </p:nvSpPr>
          <p:spPr>
            <a:xfrm>
              <a:off x="0" y="126216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60" name="Group 277" descr=""/>
          <p:cNvPicPr/>
          <p:nvPr/>
        </p:nvPicPr>
        <p:blipFill>
          <a:blip r:embed="rId2"/>
          <a:stretch/>
        </p:blipFill>
        <p:spPr>
          <a:xfrm>
            <a:off x="285840" y="146160"/>
            <a:ext cx="860400" cy="93348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6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17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18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5CD0E-5C55-47BC-AFC0-B1EC5244DF89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Rectangle 8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4" name="Group 9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305" name="Freeform 10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306" name="Freeform 10" descr=""/>
              <p:cNvPicPr/>
              <p:nvPr/>
            </p:nvPicPr>
            <p:blipFill>
              <a:blip r:embed="rId2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7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8" name="Rectangle 11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4f81b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Rectangle 12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ftr" idx="20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sldNum" idx="21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321CE-9CE1-43D8-8829-4063ECB39C06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8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Rectangle 9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3" name="Group 10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354" name="Freeform 11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355" name="Freeform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6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7" name="Rectangle 12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4f81b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Rectangle 13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 type="dt" idx="22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 type="ftr" idx="23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 type="sldNum" idx="24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306CD-4512-4A9B-80CA-6D5E2E11086E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6"/>
          <p:cNvSpPr/>
          <p:nvPr/>
        </p:nvSpPr>
        <p:spPr>
          <a:xfrm>
            <a:off x="0" y="0"/>
            <a:ext cx="9144000" cy="139068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1" name="Group 7"/>
          <p:cNvGrpSpPr/>
          <p:nvPr/>
        </p:nvGrpSpPr>
        <p:grpSpPr>
          <a:xfrm>
            <a:off x="0" y="1380960"/>
            <a:ext cx="9144000" cy="120960"/>
            <a:chOff x="0" y="1380960"/>
            <a:chExt cx="9144000" cy="120960"/>
          </a:xfrm>
        </p:grpSpPr>
        <p:sp>
          <p:nvSpPr>
            <p:cNvPr id="402" name="Straight Connector 8"/>
            <p:cNvSpPr/>
            <p:nvPr/>
          </p:nvSpPr>
          <p:spPr>
            <a:xfrm>
              <a:off x="0" y="138096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Straight Connector 9"/>
            <p:cNvSpPr/>
            <p:nvPr/>
          </p:nvSpPr>
          <p:spPr>
            <a:xfrm>
              <a:off x="0" y="143676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Straight Connector 10"/>
            <p:cNvSpPr/>
            <p:nvPr/>
          </p:nvSpPr>
          <p:spPr>
            <a:xfrm>
              <a:off x="0" y="150048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 type="dt" idx="25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 type="ftr" idx="26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 type="sldNum" idx="27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102D8-4386-4478-8A77-A5DAE8E09915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457200" y="2998440"/>
            <a:ext cx="629136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  <a:ea typeface="굴림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rbel"/>
                <a:ea typeface="굴림"/>
              </a:rPr>
              <a:t>KORN 101-01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title"/>
          </p:nvPr>
        </p:nvSpPr>
        <p:spPr>
          <a:xfrm>
            <a:off x="1499760" y="4856040"/>
            <a:ext cx="6985080" cy="136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LESSON 5. </a:t>
            </a: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한국말을 배우십니까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?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4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20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__________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을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를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_________(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스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)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ㅂ니다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선물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사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지하철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타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불고기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먹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신문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읽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운동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하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1" name="Picture 4" descr=""/>
          <p:cNvPicPr/>
          <p:nvPr/>
        </p:nvPicPr>
        <p:blipFill>
          <a:blip r:embed="rId1"/>
          <a:stretch/>
        </p:blipFill>
        <p:spPr>
          <a:xfrm>
            <a:off x="3924360" y="2205000"/>
            <a:ext cx="2628720" cy="1733760"/>
          </a:xfrm>
          <a:prstGeom prst="rect">
            <a:avLst/>
          </a:prstGeom>
          <a:ln w="0">
            <a:noFill/>
          </a:ln>
        </p:spPr>
      </p:pic>
      <p:pic>
        <p:nvPicPr>
          <p:cNvPr id="522" name="Picture 5" descr=""/>
          <p:cNvPicPr/>
          <p:nvPr/>
        </p:nvPicPr>
        <p:blipFill>
          <a:blip r:embed="rId2"/>
          <a:stretch/>
        </p:blipFill>
        <p:spPr>
          <a:xfrm>
            <a:off x="6378480" y="2205000"/>
            <a:ext cx="2619360" cy="1743120"/>
          </a:xfrm>
          <a:prstGeom prst="rect">
            <a:avLst/>
          </a:prstGeom>
          <a:ln w="0">
            <a:noFill/>
          </a:ln>
        </p:spPr>
      </p:pic>
      <p:pic>
        <p:nvPicPr>
          <p:cNvPr id="523" name="Picture 6" descr=""/>
          <p:cNvPicPr/>
          <p:nvPr/>
        </p:nvPicPr>
        <p:blipFill>
          <a:blip r:embed="rId3"/>
          <a:stretch/>
        </p:blipFill>
        <p:spPr>
          <a:xfrm>
            <a:off x="3635280" y="382104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7" descr=""/>
          <p:cNvPicPr/>
          <p:nvPr/>
        </p:nvPicPr>
        <p:blipFill>
          <a:blip r:embed="rId4"/>
          <a:stretch/>
        </p:blipFill>
        <p:spPr>
          <a:xfrm>
            <a:off x="6213600" y="3954600"/>
            <a:ext cx="2543040" cy="1800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5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26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7030a0"/>
                </a:solidFill>
                <a:latin typeface="Corbel"/>
                <a:ea typeface="굴림"/>
              </a:rPr>
              <a:t>가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  <a:ea typeface="굴림"/>
              </a:rPr>
              <a:t>: _________</a:t>
            </a:r>
            <a:r>
              <a:rPr b="0" lang="ko-KR" sz="3200" spc="-1" strike="noStrike">
                <a:solidFill>
                  <a:srgbClr val="7030a0"/>
                </a:solidFill>
                <a:latin typeface="Corbel"/>
                <a:ea typeface="굴림"/>
              </a:rPr>
              <a:t>을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  <a:ea typeface="굴림"/>
              </a:rPr>
              <a:t>/</a:t>
            </a:r>
            <a:r>
              <a:rPr b="0" lang="ko-KR" sz="3200" spc="-1" strike="noStrike">
                <a:solidFill>
                  <a:srgbClr val="7030a0"/>
                </a:solidFill>
                <a:latin typeface="Corbel"/>
                <a:ea typeface="굴림"/>
              </a:rPr>
              <a:t>를 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  <a:ea typeface="굴림"/>
              </a:rPr>
              <a:t>_________(</a:t>
            </a:r>
            <a:r>
              <a:rPr b="0" lang="ko-KR" sz="3200" spc="-1" strike="noStrike">
                <a:solidFill>
                  <a:srgbClr val="7030a0"/>
                </a:solidFill>
                <a:latin typeface="Corbel"/>
                <a:ea typeface="굴림"/>
              </a:rPr>
              <a:t>으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  <a:ea typeface="굴림"/>
              </a:rPr>
              <a:t>)</a:t>
            </a:r>
            <a:r>
              <a:rPr b="0" lang="ko-KR" sz="3200" spc="-1" strike="noStrike">
                <a:solidFill>
                  <a:srgbClr val="7030a0"/>
                </a:solidFill>
                <a:latin typeface="Corbel"/>
                <a:ea typeface="굴림"/>
              </a:rPr>
              <a:t>십니까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  <a:ea typeface="굴림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  <a:ea typeface="굴림"/>
              </a:rPr>
              <a:t>   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나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: _________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을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/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를 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_________(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)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ㅂ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무엇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배우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영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무엇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보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영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무엇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읽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잡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누구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기다리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동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누구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만나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사장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숙제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Assignment)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28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Do the writing practice on p.54 and 55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"/>
          <p:cNvSpPr txBox="1"/>
          <p:nvPr/>
        </p:nvSpPr>
        <p:spPr>
          <a:xfrm>
            <a:off x="456840" y="1600200"/>
            <a:ext cx="8110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마크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이것이 무엇입니까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00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0000"/>
                </a:solidFill>
                <a:latin typeface="Corbel"/>
                <a:ea typeface="굴림"/>
              </a:rPr>
              <a:t>이것은 </a:t>
            </a:r>
            <a:r>
              <a:rPr b="0" lang="en-US" sz="2800" spc="-1" strike="noStrike">
                <a:solidFill>
                  <a:srgbClr val="ff0000"/>
                </a:solidFill>
                <a:latin typeface="Corbel"/>
                <a:ea typeface="굴림"/>
              </a:rPr>
              <a:t>~, </a:t>
            </a:r>
            <a:r>
              <a:rPr b="0" lang="ko-KR" sz="2800" spc="-1" strike="noStrike">
                <a:solidFill>
                  <a:srgbClr val="ff0000"/>
                </a:solidFill>
                <a:latin typeface="Corbel"/>
                <a:ea typeface="굴림"/>
              </a:rPr>
              <a:t>이것이 </a:t>
            </a:r>
            <a:r>
              <a:rPr b="0" lang="en-US" sz="28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0000"/>
                </a:solidFill>
                <a:latin typeface="Corbel"/>
                <a:ea typeface="굴림"/>
              </a:rPr>
              <a:t> </a:t>
            </a:r>
            <a:r>
              <a:rPr b="0" lang="ko-KR" sz="2800" spc="-1" strike="noStrike">
                <a:solidFill>
                  <a:srgbClr val="ff0000"/>
                </a:solidFill>
                <a:latin typeface="Corbel"/>
                <a:ea typeface="굴림"/>
              </a:rPr>
              <a:t>이게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야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한국어 교과서입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마크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한국말을 배우십니까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야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,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한국말을 배웁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00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0000"/>
                </a:solidFill>
                <a:latin typeface="Corbel"/>
                <a:ea typeface="굴림"/>
              </a:rPr>
              <a:t>네</a:t>
            </a:r>
            <a:r>
              <a:rPr b="0" lang="en-US" sz="2800" spc="-1" strike="noStrike">
                <a:solidFill>
                  <a:srgbClr val="ff0000"/>
                </a:solidFill>
                <a:latin typeface="Corbel"/>
                <a:ea typeface="굴림"/>
              </a:rPr>
              <a:t>, </a:t>
            </a:r>
            <a:r>
              <a:rPr b="0" lang="ko-KR" sz="2800" spc="-1" strike="noStrike">
                <a:solidFill>
                  <a:srgbClr val="ff0000"/>
                </a:solidFill>
                <a:latin typeface="Corbel"/>
                <a:ea typeface="굴림"/>
              </a:rPr>
              <a:t>그렇습니다 </a:t>
            </a:r>
            <a:r>
              <a:rPr b="0" lang="en-US" sz="2800" spc="-1" strike="noStrike">
                <a:solidFill>
                  <a:srgbClr val="ff0000"/>
                </a:solidFill>
                <a:latin typeface="Corbel"/>
                <a:ea typeface="굴림"/>
              </a:rPr>
              <a:t>(Yes, I do)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DIALOGUE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단어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Vocabulary)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0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한국말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어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) Korean (language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배우다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lear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교과서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textboo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문법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Grammar) 1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2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이것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저것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그것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this/that/it; pronou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이것은 아주 좋습니다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저것은 누구의 옷입니까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그것을 저에게 주십시오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~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이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가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; subject postposi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자동차가 많습니다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cc"/>
                </a:solidFill>
                <a:latin typeface="Corbel"/>
                <a:ea typeface="굴림"/>
              </a:rPr>
              <a:t>이것이 연필입니다</a:t>
            </a:r>
            <a:r>
              <a:rPr b="0" lang="en-US" sz="2800" spc="-1" strike="noStrike">
                <a:solidFill>
                  <a:srgbClr val="0000cc"/>
                </a:solidFill>
                <a:latin typeface="Corbel"/>
                <a:ea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cc"/>
                </a:solidFill>
                <a:latin typeface="Corbel"/>
                <a:ea typeface="굴림"/>
              </a:rPr>
              <a:t>그분이 우리 어머니입니다</a:t>
            </a:r>
            <a:r>
              <a:rPr b="0" lang="en-US" sz="2800" spc="-1" strike="noStrike">
                <a:solidFill>
                  <a:srgbClr val="0000cc"/>
                </a:solidFill>
                <a:latin typeface="Corbel"/>
                <a:ea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rbel"/>
                <a:ea typeface="굴림"/>
              </a:rPr>
              <a:t>~</a:t>
            </a:r>
            <a:r>
              <a:rPr b="0" lang="ko-KR" sz="2800" spc="-1" strike="noStrike">
                <a:solidFill>
                  <a:srgbClr val="ff0000"/>
                </a:solidFill>
                <a:latin typeface="Corbel"/>
                <a:ea typeface="굴림"/>
              </a:rPr>
              <a:t>은</a:t>
            </a:r>
            <a:r>
              <a:rPr b="0" lang="en-US" sz="2800" spc="-1" strike="noStrike">
                <a:solidFill>
                  <a:srgbClr val="ff0000"/>
                </a:solidFill>
                <a:latin typeface="Corbel"/>
                <a:ea typeface="굴림"/>
              </a:rPr>
              <a:t>/</a:t>
            </a:r>
            <a:r>
              <a:rPr b="0" lang="ko-KR" sz="2800" spc="-1" strike="noStrike">
                <a:solidFill>
                  <a:srgbClr val="ff0000"/>
                </a:solidFill>
                <a:latin typeface="Corbel"/>
                <a:ea typeface="굴림"/>
              </a:rPr>
              <a:t>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76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문법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Grammar) 2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무엇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what; an interrogative pronou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이것이 무엇입니까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무엇을 먹었습니까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무엇을 좋아합니까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~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을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를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; an object postposi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이 버스를 타십시오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저는 한국말을 공부합니다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그 사람은 운동을 좋아합니까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/>
          <p:cNvSpPr txBox="1"/>
          <p:nvPr/>
        </p:nvSpPr>
        <p:spPr>
          <a:xfrm>
            <a:off x="503280" y="1600200"/>
            <a:ext cx="3859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냉장고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refrigerator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안경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glasse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꽃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flower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문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door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지하철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subway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신문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newspaper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영어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English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잡지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magazine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4498920" y="1600200"/>
            <a:ext cx="3859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사전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dictionary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공책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notebook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달력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calendar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선물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gift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불고기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Bulgogi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편지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letter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영화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movie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보충단어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Additional Vocabulary)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Pattern Drill) 1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9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____________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이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가 무엇입니까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저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그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이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2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1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가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 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________</a:t>
            </a: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이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/</a:t>
            </a: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가 무엇입니까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   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나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:  ________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은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/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는 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________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입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이것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구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저것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시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저것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가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그것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책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그것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냉장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2" name="Picture 4" descr=""/>
          <p:cNvPicPr/>
          <p:nvPr/>
        </p:nvPicPr>
        <p:blipFill>
          <a:blip r:embed="rId1"/>
          <a:stretch/>
        </p:blipFill>
        <p:spPr>
          <a:xfrm>
            <a:off x="4140360" y="285264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513" name="Picture 5" descr=""/>
          <p:cNvPicPr/>
          <p:nvPr/>
        </p:nvPicPr>
        <p:blipFill>
          <a:blip r:embed="rId2"/>
          <a:stretch/>
        </p:blipFill>
        <p:spPr>
          <a:xfrm>
            <a:off x="6434280" y="2800440"/>
            <a:ext cx="2019240" cy="2266920"/>
          </a:xfrm>
          <a:prstGeom prst="rect">
            <a:avLst/>
          </a:prstGeom>
          <a:ln w="0">
            <a:noFill/>
          </a:ln>
        </p:spPr>
      </p:pic>
      <p:pic>
        <p:nvPicPr>
          <p:cNvPr id="514" name="Picture 6" descr=""/>
          <p:cNvPicPr/>
          <p:nvPr/>
        </p:nvPicPr>
        <p:blipFill>
          <a:blip r:embed="rId3"/>
          <a:stretch/>
        </p:blipFill>
        <p:spPr>
          <a:xfrm>
            <a:off x="1662120" y="5300640"/>
            <a:ext cx="1609560" cy="1481040"/>
          </a:xfrm>
          <a:prstGeom prst="rect">
            <a:avLst/>
          </a:prstGeom>
          <a:ln w="0">
            <a:noFill/>
          </a:ln>
        </p:spPr>
      </p:pic>
      <p:pic>
        <p:nvPicPr>
          <p:cNvPr id="515" name="Picture 7" descr=""/>
          <p:cNvPicPr/>
          <p:nvPr/>
        </p:nvPicPr>
        <p:blipFill>
          <a:blip r:embed="rId4"/>
          <a:stretch/>
        </p:blipFill>
        <p:spPr>
          <a:xfrm>
            <a:off x="3492360" y="5018040"/>
            <a:ext cx="2505240" cy="1828800"/>
          </a:xfrm>
          <a:prstGeom prst="rect">
            <a:avLst/>
          </a:prstGeom>
          <a:ln w="0">
            <a:noFill/>
          </a:ln>
        </p:spPr>
      </p:pic>
      <p:pic>
        <p:nvPicPr>
          <p:cNvPr id="516" name="Picture 8" descr=""/>
          <p:cNvPicPr/>
          <p:nvPr/>
        </p:nvPicPr>
        <p:blipFill>
          <a:blip r:embed="rId5"/>
          <a:stretch/>
        </p:blipFill>
        <p:spPr>
          <a:xfrm>
            <a:off x="6084720" y="479736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3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8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가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 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________</a:t>
            </a: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이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/</a:t>
            </a: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가 무엇입니까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   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나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:  ________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은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/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는 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________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입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이것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그것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안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그것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이것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공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그것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이것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저것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저것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달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저것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저것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26T08:40:46Z</dcterms:created>
  <dc:creator>jyy</dc:creator>
  <dc:description/>
  <dc:language>en-US</dc:language>
  <cp:lastModifiedBy>SRU</cp:lastModifiedBy>
  <dcterms:modified xsi:type="dcterms:W3CDTF">2012-10-29T14:28:19Z</dcterms:modified>
  <cp:revision>90</cp:revision>
  <dc:subject/>
  <dc:title>KOREAN LANGUAGE</dc:title>
</cp:coreProperties>
</file>